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636-AEF3-4C37-A608-7565978D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E17-BA7E-4326-B414-B41843B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C8C-B34A-4C86-A8FA-4E100C7D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06C-703B-4A20-87CF-CE3F020E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6F9-C286-4655-B5F7-8C1EF140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CCC-C3EC-4C56-836D-23F8887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174-2065-40F6-98C5-824097E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B2C6-1565-4034-9FD0-7D41D7C9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F65-4700-462B-941E-6E60A96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2440-739E-4323-B194-1DFFB71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E2AB-5E72-4F38-966C-C64F79C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4A6-507C-4EAD-B726-7C1B97C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1FCB-20BB-4BC0-99EC-F6351A9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3230-5993-4555-BF5A-0F873B8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864-BA51-4C2D-8BD5-B799A2BE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ED7A-D5DA-417B-A472-C9D39638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5D7-DB41-4A28-A7FE-99D9770D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58B-6710-4FA2-865C-419F660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923-42BF-46A1-93FB-E2CA62E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337-41F8-4F73-A469-DE3D024E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FFD-4DB0-410C-911D-78BCF8F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542-9F87-46CE-96F6-015B0CC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FB0-5574-4A76-862E-0DE6E25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363-C260-4C0B-9B8B-9B3AEC0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9C5-029C-4D0A-8B03-7264C455F5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D84-1955-4A25-88F1-C051F77749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72154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     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сероссийские соревнования среди УОР, ЦСП (СДЮШОР, СШОР) и ДЮСШ (СШ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юниоры и юниорки до 20 лет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-23.05.2017 г.                                                    г. Майко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Республика Адыг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75438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Всероссийские соревнования среди УОР, ЦСП (СДЮШОР, СШОР) и ДЮСШ (СШ),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 (юниоры и юниорки до 20 лет)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21-23.05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.2017 г.                                                    г. Майкоп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(Республика Адыгея)</a:t>
            </a:r>
            <a:br>
              <a:rPr sz="1600"/>
            </a:br>
            <a:br>
              <a:rPr sz="14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2060640"/>
          <a:ext cx="7499160" cy="3328920"/>
        </p:xfrm>
        <a:graphic>
          <a:graphicData uri="http://schemas.openxmlformats.org/drawingml/2006/table">
            <a:tbl>
              <a:tblPr/>
              <a:tblGrid>
                <a:gridCol w="3471840"/>
                <a:gridCol w="1650960"/>
                <a:gridCol w="706320"/>
                <a:gridCol w="1670040"/>
              </a:tblGrid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В. Шемя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А.Горбу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А.А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бокс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Игн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Т.Вак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рече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Роман</cp:lastModifiedBy>
  <cp:lastPrinted>2016-12-05T13:39:33Z</cp:lastPrinted>
  <dcterms:modified xsi:type="dcterms:W3CDTF">2017-05-21T06:06:25Z</dcterms:modified>
  <cp:revision>3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